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0.gif" ContentType="image/gif"/>
  <Override PartName="/ppt/media/image12.jpeg" ContentType="image/jpeg"/>
  <Override PartName="/ppt/media/image13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5220-89EA-433A-AF3A-E6AB3EAEA9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0209-287A-4608-9F7A-F900A5CB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1C7E7A-8FFC-4CDF-A7C1-3796EC1C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F8B939-B6E9-4E3E-A7BB-23CE046D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3B14F7-3BE2-4AF1-829A-D3464F2C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C9CE92-8413-4504-96D7-D1FBC7F4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C6379F-19B0-4AC5-86C8-AD82DA6C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5ABB94-93C3-4184-9228-20505FBC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A21DD3-B038-4DA2-81B3-D9D2DF2A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7143E1-F418-4B53-BD0C-A6FD22C7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AD2ABC-710F-4701-B3ED-EADE79FED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D9142-9BA1-4EB1-A1B1-83E73948FA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47A1-520A-41EE-9CCC-1397C0E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CD9D4-30BD-4E9B-B807-59123DB9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0947A-C397-46F6-99C4-DC80B278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430AF-BAD6-4C61-A959-E9DAA3D1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CB6CD-BF46-48C2-93C5-6F3639B0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5FA75-5CAE-47DD-B512-3836684E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A90E3-53DB-48D5-9589-34473C73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A32C5-F17A-4474-AFB6-10ABFAF9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F4C7A-71F4-4D0F-B11C-3EC10AB9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C9BAF-A322-4BD9-BF41-68DAC3D5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52C59-D33D-436C-ADF2-4FFAE0A6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E90DD-075D-4ABC-9A3B-B92D0154FD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FB29D-F03C-4D05-8915-BCAC3510B6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389AE3-FF6C-44A1-AB73-0710AD0078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EE462-0E5A-4BAD-8557-AC96912D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3CAE93-2D71-4B07-8062-3780323A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56E7E-7D6A-45C5-A0AF-68C8D6FB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57420B-3010-43FA-A9DD-39C4762F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6928DF-9956-4879-BA09-AE96D4B6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D926E4-3BA0-4040-953B-80F467C0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FAF23E-2A2D-4F50-B1A6-B41835A5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4C71CC-5FA0-4E97-9251-B80EE623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88E67-2CB2-49F3-8C57-8418A73E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4A8ADF-380A-47A3-A8D8-DB119AFA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A1F2D-14D5-44A1-9E49-14FD03ED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17D5D-5F81-43EA-A9D6-E64DD4F712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57937-38D9-40FE-BB9B-7BDB921F48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E7BF8-9C60-4649-8FAE-8426B350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8F523-D635-4B27-BD6D-38896792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FEA9A-39BD-46EB-8655-93AA97C9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122D5-3A32-4E59-9270-330FEB1A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1F4EA-AD68-40D3-A136-D6717C2F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F67A7-E3A3-4D99-AEF6-7A46114A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5D276-8675-43F6-8BC9-46FE7DE6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DC72A-5521-4A8C-B3AB-8BD3406D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B07F3-8D29-4F18-8C2E-42AFD3E3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15028-F492-4BD9-B700-155D3669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CBD36-6F54-487D-B2D5-30C558F5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1A310-2C8E-4D3E-804E-EEE86E18D0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4DB07-E579-4D25-A331-0E7502576D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AA001-7F74-4A13-93B8-A11FBBC7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DAB95-ED81-4407-857E-B04E3651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FEFBA-6F72-45FD-AC70-558A336D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7E425-FC30-4387-B5B4-E2524570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6C6E5-2C44-4A65-AA02-EEEEB938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E9863-BF4B-4448-95F2-6A9CB963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BB14B-F06C-4B77-81C8-F18011E2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61492-E79E-4869-8899-12639DA6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2D0CE-EA76-4C25-970C-D5C3689C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39A8F-2BAC-48D5-94AE-C9A1A509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8A362-A46A-4760-BE6D-40A27C5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C4444-DE54-4A04-B89D-1286E5C9B7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41941-7AA1-4054-AF5C-9ED44485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7E670-E964-4EC4-AAB4-01D756DD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860A3-06B1-4E04-8E8D-507F1D74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A4D04-BCD6-4DFA-A017-63F8B37A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31AB9-75B7-46A0-9FF1-87D9DAA4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CDB8A-7688-4851-A615-2595D993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C5089-36C1-496F-BE7D-DD469422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6BA7C-CF90-4260-90DA-102FBD6B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8014D-FE98-4A69-9B01-81818509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DE4AA-1C64-483C-A2F0-54B4A134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7B525-2D3A-46A4-B9DA-134DBA56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C58D1-C08D-4A9B-BEBA-7C426BCD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E2D2C-D377-4F55-88A2-EAE65E0A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517E2-BDB4-4D0E-9106-096DF418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FEAED-6328-4C92-82F3-A0CEA2D6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281E9-364E-4381-9B18-22F8CE6C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AB2EC-938E-41E1-AAA9-29E01A81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17C83-3C28-49C0-8378-640EBCD4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C8B8D-E59F-47F6-97B3-08C58B6E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013E8-0854-474D-A871-9004E1C5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D26CB-25AC-4986-BC32-1F34159F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90BEF-2035-4F0D-9E2F-53C5C3D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ACE5A-57F0-4CE3-82E5-07AC410F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1CCF7-3379-423B-BE03-70D6A041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96BF0-9B80-4271-8110-6D8802E4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43590-556C-4689-9D2B-F540E722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87D12-3ED5-4F06-A458-13FC1A1F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F0C13-9CF4-4041-A857-5348F10F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7E261-8D9B-4ED3-8F5D-561D35D0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AA9A0-B3D2-4F4C-976C-5AFAF952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FFA07-BBC1-43C2-A6AC-FD441BD5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AD859-7328-47E6-B13E-D87AAAF3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33398-78B4-4135-B5B6-922A763A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32644-0850-42AB-B621-985852BF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40A8A-CF69-4AB6-808E-E62EAB8D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A3B86-CE02-4CE2-9E73-9ED04E9C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B4E60-E765-450D-84B9-04246293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D06CD-6E05-41E5-924B-F3AFB02A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D45CF-BA96-490E-B589-65C3D3FE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FB35A-96C4-4D0D-A9AB-18989086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C6146-0888-4363-A210-6AA965F8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3734B-9EDC-4438-BC88-5758BA6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D6B60-6FCB-4B8B-BD3F-9B8C07C5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D4B83-0FC1-4297-B93F-AD0C76C8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C6DB7-1C90-4D22-885D-9F857B00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8F048-6BAA-4672-B1A8-87191CC9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EE6AA-5867-4DF0-B465-8A66CD62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5E8D-77B4-4732-894B-C25300AF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3CB96-1B3F-43D3-9DC6-3C6CBF9C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55F07-79C2-476E-AF55-93AD149D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EEAAC-F58B-4341-861C-DECB70D5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B3136-2417-47AF-BC4D-A1472BC0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9CD45-5730-4FE2-B2E4-0AE6E9D1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65626A-DB83-47CC-AB81-7488359F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7A4A9-7303-4442-948A-1F518BC8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3799D-2D79-415D-A28A-EE908280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ABF0D-F1F3-4028-801D-113F256C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E25FD-9BFC-4EE3-A739-64BDB808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03D7C-64F0-4533-9F53-A22179B1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47C4B-D55F-4C5A-A2E3-BE48474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45A8B-80F9-4D61-9D2A-99EF32F2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EBC48-6FFD-491A-8ACC-06429F02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0B2ED-5EC1-4B82-85F6-E8494C1D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333EF-8504-418F-BD60-D71F6B05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6309C-F7DA-49D1-A9AA-62CAE898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DE582-4427-4606-85F6-98DB9E59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CA535-1AA9-4AF3-9C8B-B60792F9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19F2B-3105-4CFA-847E-8D117D43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EC725-C537-4E30-8310-897244C5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A2DD6-0028-479C-960F-6DA52F67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324D2-E2C2-4BE1-B8F1-C71605BA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C4A69-EEC8-46C6-9190-D89E91EB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53F96E-7B78-45E4-AFE2-88D33376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14F7C-133A-46ED-A8C2-8BD9F5BC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7F99B8-C53B-4004-A084-343A5837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292F2-BA8F-49B7-8178-80BAE2DC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71E0F7-6CDC-4DBD-9417-19049FA6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43D83-6E71-4E0F-ABEC-1A3D6CB1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4C19F-4D5A-4D12-B701-5F695C90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64FE22-8BBA-42F0-9480-721FC948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0BBBC-6A42-400F-B468-DD588026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2C02F-8306-4D66-B280-04E19D2A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2ACB4-2028-4B1D-8651-AA989065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C8580-6909-4E2E-A3FC-91D4B115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D8E96-10A8-4872-AE0A-AC81BA23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F25D8-A0A6-4AFE-A726-D55FA892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52241-DAF8-4728-98AE-E4B47A74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C3A9C-CE43-42C0-95E6-D6FFC599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F2D3E-6230-4B96-82BC-54F741CE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452EBA-5F43-4ED3-8A95-0663E688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38D5C-2873-48E0-86F1-12B839CC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067F5-6F00-4F52-AFBF-909C596D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896E0-BFF1-4F51-93B3-BFBAE6BA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B5E6C-F920-47C5-BA5C-B6A84083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03681-7511-4663-BBE6-3694D09C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ED7FD-62CD-4C75-A0D2-3542AC70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8A08A-A2CE-4809-A097-7DFE333B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B089A-9A37-4DA1-89DB-FF34D312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59020-4AEC-4894-9D08-FB7840D2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C90FC-33D0-410F-AB83-38DED767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968AE-338E-4BAC-A2DA-45C77542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EAA8CD-904E-4E9A-8EEB-AABBDA62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6BE90-049C-458B-AB7F-BABE62E0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2CEBD-B06D-4808-9481-00F240EAFC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CD0FF-8670-49A2-8F58-BC052E16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73C44-4A11-4A9B-8687-1A157836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714A8A-DB32-4400-910D-1519EFF1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7FBEB-0B0B-43A1-856E-12732CEF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6ABEA-EFF8-4402-881F-9473725A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C20B8-93FB-4890-80E4-65212D2D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24609-4C0F-49EA-A254-4501F99A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DB483-A7C6-41E4-BB47-C7650298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3020FC-2F02-44EA-91DD-520ED4E2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AF699-04D8-4FB2-B4B7-C32DB999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69A66F-310D-42F7-BD91-4F4AAEA2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9EAF9-F350-4F48-99A9-54B63B8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2A2D2-A379-4FA0-A239-41634157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445BB9-4736-49C1-8B45-A09E69C0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507A44-80AF-4BCC-A637-5A688B61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5FD11-0CFF-40BF-9ED4-C0839F82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BED1A-601A-485D-AC3F-D5888EAE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A86A5A-46DE-40BE-85D9-87F25333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8A21A-8210-49F5-8CA1-EBCAED24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79A53-7D39-484B-8CB1-FD5B56AD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0E25B-D3AD-4090-A17F-A3D8BDAA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3E9E07-35C9-4050-9ABF-1CE26CE1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3D918-69F7-40AD-AD6A-2891D8A1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A7DE5-CD89-4A85-9F65-E3E96C58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14FADA-D2BC-48F2-A5A3-327BD51F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67269-D099-4623-B389-20D278E2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E0DE2-9CAD-4908-93EA-455076EE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EB9E9A-5BA4-48AA-8437-AC61D21F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1C0613-A3AC-42FC-B793-FC61DE10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603EE-999F-4DA3-864B-895BB6D0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ABE97C-2B7B-4455-8267-784A8703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F3C390-1A07-4E69-8DF8-5E0654E7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E7D381-D384-4DF5-8E65-4FB448DE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6E4299-3811-4736-8886-8ADCBA0F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EB1D9B-E8CB-4118-B65A-DD026C8D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D17102-A91B-4830-9FED-0DF2F940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C1DCC-0213-401B-B732-76C5B642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7ED45E-ABAC-426D-BC62-11E21F7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BCD85-903A-45D4-8767-716B0138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87431-D25E-4ED9-A5E1-EC1533FF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CF2F6-942E-464D-BDAF-B48BB666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34D2DF-4F2E-4CC6-84EA-3791AB6F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93F861-CF60-41CE-93D3-04B806BE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ECF2-8249-4F77-8B07-1B71906A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3F6F2-97DF-4A29-8AF5-BD70A65B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0403B2-435F-4972-9E2D-F3A53908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C4C561-C23E-461B-AEED-CBDFEA5C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F66F3-001A-4BD4-B403-25CF8B5D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7CD35-7EAB-47D5-9E59-0A4961E8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C5C48C-CF57-4A01-9FDC-660D9EB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D0077-EC90-4E9B-94EC-8BBCD1691E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8F1E-63FE-4BF8-93B1-BFDD669655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02201-5200-4C0E-B4A0-EA20E057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3291-8C9C-4159-9F4C-652966D8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5286-00FA-4227-A4F7-E330D7E6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FD27-A96E-4767-A9AA-E6ED781C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9438-7FFD-45F9-B541-2E4B9DE2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B37C-7C28-4CD5-A300-FF357BC0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1C449-63D9-433A-9E9F-A71EC03C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AC3F-38AA-4738-B027-73C59D59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88C3-AD30-40E9-B3E5-57A9B0BF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E4AE-1E8D-43CA-B5D9-60AB69AF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C2B2F-7B03-44DD-9F23-726D264F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3894-C2DF-4192-9EED-7BBC902CDA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5DE8B-3D16-4684-8036-513FA0C629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0CB6-B904-4756-AB2E-8E1A5305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40F6D-F1A7-4D45-9F77-3E8597A3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18470-755F-4782-86A8-8F88F535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7A8F1-8E2C-4242-B083-E152591A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0C7D9-5983-4CC0-A493-D456E4B3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83622-1840-4B8D-A4C2-2518830E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E02D3-0C15-45BC-8C77-87739BC6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BDA0D-705B-4A04-9D86-7C864CB8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AB4A3-8508-43EC-981D-0A0BBEB0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DCCA9-E6EE-4E6A-8E84-62D9DEB3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68C5C-965C-4DAD-987A-489B2F4F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0402-E33D-4FE8-8658-1B45F17D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B9E6D-1268-4555-95B7-3341EE7D6E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D08188-ACF3-4C55-AA86-7791DD40A7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452538-B05A-499E-AFB8-606B35FD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83EEC3-0E60-48F2-99A3-1C82270D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EF3F71-1891-4CB4-A386-03ABBAD1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377EFA-FBA2-4388-906D-369C912F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115D6-CAC3-4570-BDB6-2E9B1AA6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0C07B3-497B-4F58-9547-05879580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ADE05-7C61-436E-BF0B-7DED66F5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2955D5-3BDE-4F0C-B210-2D18AEE5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8519-1E51-4059-87DE-88D3FC3A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67B945-056B-4D15-AD99-96A3140A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881E80-1E6C-4A6E-BC10-C6E4DC96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7535C0-B6E7-47CD-8495-FECD6C3465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E439B-F73E-4EBA-97D0-EE33892432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197C3-085C-4CDA-B47E-93BD9C05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16AC5-1C45-476F-8C41-111ED565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81CE-2664-4285-A7AB-66D5C093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D21B8-3BBC-405A-88A0-F737EE8B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BF6D3-5E46-4321-95E1-DE74EDE0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2DCCC-624A-4E3E-9074-0DC62241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1A4A-F538-43D5-8E0A-41A098F3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99C41-03D9-41BC-A339-C732EC95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8797-F796-43FC-953D-D92B6802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3CF1E-9340-4472-8C1E-F7AE4F73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C5519-FB9E-4396-BA1F-3A84C26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2E2A-8F31-4D7A-9432-9CCC4220F6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CF292-3ADD-4B61-9368-D0DF60BF7C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69D6E-83D7-407A-A0BF-DD218D02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CFFB2-310E-4D01-A749-B3A5BF52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462BF-1AA5-401E-BB38-49EC4B79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146FF-B794-4EAC-9D81-6F6FFBB0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24A0-F33B-4438-81E2-191F0146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F4AA3-2F64-4A77-9690-7F2F8316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56EE6-9E54-4409-99E8-2B99F5B0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4E005-8735-425D-AEC5-0C2319DD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BF589C-154E-4FA8-8629-539450F1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C328A-1440-4362-8577-808DF671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21F6E-F403-4A90-9DBD-D46FFB5D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84913-2A91-4382-96F2-84C2491E9A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921205-3657-4998-9586-E1C86DDC3D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5585FC-E85B-45D3-9D9B-6077BC0B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31B760-3F90-4508-A9B6-8072A6A6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D302-0180-4265-80AB-875C78111C1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63DC-9E20-442C-B1DE-00BFEFC971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4286-4935-47D8-B184-43AFAA79ED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42AE-5936-4A87-97D6-E85330E5FBC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0EE0-F22C-4097-8D17-02227A24C6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2091-60F0-4EF8-ADF2-D6ACC304521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8B46-D8A0-4B03-83EB-DBEE35A56BF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4794-4ECD-41B8-92FF-FE9E9AACCC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D806-D9C5-4ABF-A226-2A761DCCDC9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5636-230E-48E7-A8E9-25E5CB4D974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02DE-2C71-4828-B8CC-9C83A95A55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C9CA-B092-46D6-8721-869AECD346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84C6-32B2-4425-B4D9-E077EDE7EB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36EA-299F-4330-BC3F-872B6A5712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C5A1-8F88-465F-A247-F8E95389DC1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68C0-1B32-44D5-9A15-7CBF5C9E7D9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EA1C-E1A6-49E6-B556-D8A43C5A330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D463-8FE6-4A05-AB7F-7DF4C06719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03B9-72A2-4ADC-9967-6ABAF714E2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8A42-7259-46EB-9B0F-75687E0647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50B8-9E9A-4D2B-864F-075AF972BC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E0D0-CF30-41D0-94F9-A1766E64E51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454C-871A-4939-AB98-976841CC8C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2A01-69DB-44B4-97B1-4E2DAB6113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508120" y="270360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积 的 变 化 规 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11040" y="1744560"/>
            <a:ext cx="74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位数乘两位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"/>
          <p:cNvSpPr/>
          <p:nvPr/>
        </p:nvSpPr>
        <p:spPr>
          <a:xfrm>
            <a:off x="501480" y="115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"/>
          <p:cNvSpPr/>
          <p:nvPr/>
        </p:nvSpPr>
        <p:spPr>
          <a:xfrm>
            <a:off x="785880" y="871560"/>
            <a:ext cx="7678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5×8=                25×4=                 170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6×100=            30×50=               32×30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6×20=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9×800=               42×40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×600=              20×300=             240×5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"/>
          <p:cNvSpPr/>
          <p:nvPr/>
        </p:nvSpPr>
        <p:spPr>
          <a:xfrm>
            <a:off x="857160" y="3586320"/>
            <a:ext cx="730260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买一个文具盒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元，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个文具盒需多少元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个文具盒呢？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个文具盒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买文具盒的个数越多，所需的钱就越多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在乘法算式中，积有怎样的变化规律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4"/>
          <p:cNvSpPr/>
          <p:nvPr/>
        </p:nvSpPr>
        <p:spPr>
          <a:xfrm>
            <a:off x="2087640" y="144936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5"/>
          <p:cNvSpPr/>
          <p:nvPr/>
        </p:nvSpPr>
        <p:spPr>
          <a:xfrm>
            <a:off x="2478240" y="195120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6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6"/>
          <p:cNvSpPr/>
          <p:nvPr/>
        </p:nvSpPr>
        <p:spPr>
          <a:xfrm>
            <a:off x="2265480" y="243216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7"/>
          <p:cNvSpPr/>
          <p:nvPr/>
        </p:nvSpPr>
        <p:spPr>
          <a:xfrm>
            <a:off x="2286000" y="294012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48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8"/>
          <p:cNvSpPr/>
          <p:nvPr/>
        </p:nvSpPr>
        <p:spPr>
          <a:xfrm>
            <a:off x="4560840" y="1449360"/>
            <a:ext cx="7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9"/>
          <p:cNvSpPr/>
          <p:nvPr/>
        </p:nvSpPr>
        <p:spPr>
          <a:xfrm>
            <a:off x="4753080" y="195120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5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10"/>
          <p:cNvSpPr/>
          <p:nvPr/>
        </p:nvSpPr>
        <p:spPr>
          <a:xfrm>
            <a:off x="4732200" y="2432160"/>
            <a:ext cx="714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2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1"/>
          <p:cNvSpPr/>
          <p:nvPr/>
        </p:nvSpPr>
        <p:spPr>
          <a:xfrm>
            <a:off x="4927680" y="294012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12"/>
          <p:cNvSpPr/>
          <p:nvPr/>
        </p:nvSpPr>
        <p:spPr>
          <a:xfrm>
            <a:off x="7253280" y="144936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8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3"/>
          <p:cNvSpPr/>
          <p:nvPr/>
        </p:nvSpPr>
        <p:spPr>
          <a:xfrm>
            <a:off x="7445520" y="195120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6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14"/>
          <p:cNvSpPr/>
          <p:nvPr/>
        </p:nvSpPr>
        <p:spPr>
          <a:xfrm>
            <a:off x="7424640" y="2432160"/>
            <a:ext cx="714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68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15"/>
          <p:cNvSpPr/>
          <p:nvPr/>
        </p:nvSpPr>
        <p:spPr>
          <a:xfrm>
            <a:off x="7286760" y="294012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2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2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2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5" name="TextBox 1"/>
          <p:cNvSpPr/>
          <p:nvPr/>
        </p:nvSpPr>
        <p:spPr>
          <a:xfrm>
            <a:off x="501480" y="7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3"/>
          <p:cNvSpPr/>
          <p:nvPr/>
        </p:nvSpPr>
        <p:spPr>
          <a:xfrm>
            <a:off x="785880" y="800280"/>
            <a:ext cx="6797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观察下面两组题，说一说你发现了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4"/>
          <p:cNvSpPr/>
          <p:nvPr/>
        </p:nvSpPr>
        <p:spPr>
          <a:xfrm>
            <a:off x="727200" y="1644480"/>
            <a:ext cx="758484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×2=12        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×4=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×20=120                   10×4=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×200=1200                   5×4=20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组合 14"/>
          <p:cNvGrpSpPr/>
          <p:nvPr/>
        </p:nvGrpSpPr>
        <p:grpSpPr>
          <a:xfrm>
            <a:off x="428760" y="3503520"/>
            <a:ext cx="8429400" cy="1857600"/>
            <a:chOff x="428760" y="3503520"/>
            <a:chExt cx="8429400" cy="1857600"/>
          </a:xfrm>
        </p:grpSpPr>
        <p:pic>
          <p:nvPicPr>
            <p:cNvPr id="1039" name="图片 8" descr="000.gif"/>
            <p:cNvPicPr/>
            <p:nvPr/>
          </p:nvPicPr>
          <p:blipFill>
            <a:blip r:embed="rId8"/>
            <a:stretch/>
          </p:blipFill>
          <p:spPr>
            <a:xfrm>
              <a:off x="7641720" y="4003560"/>
              <a:ext cx="121644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圆角矩形标注 7"/>
            <p:cNvSpPr/>
            <p:nvPr/>
          </p:nvSpPr>
          <p:spPr>
            <a:xfrm>
              <a:off x="428760" y="3557160"/>
              <a:ext cx="7618680" cy="1000080"/>
            </a:xfrm>
            <a:prstGeom prst="wedgeRoundRectCallout">
              <a:avLst>
                <a:gd name="adj1" fmla="val 45648"/>
                <a:gd name="adj2" fmla="val 70300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Box 5"/>
            <p:cNvSpPr/>
            <p:nvPr/>
          </p:nvSpPr>
          <p:spPr>
            <a:xfrm>
              <a:off x="498960" y="3503520"/>
              <a:ext cx="902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左边第一道算式与第二道算式比较，哪个因数没有变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哪个因数变了？是怎样变的？积又有什么变化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TextBox 9"/>
          <p:cNvSpPr/>
          <p:nvPr/>
        </p:nvSpPr>
        <p:spPr>
          <a:xfrm>
            <a:off x="285840" y="4789440"/>
            <a:ext cx="735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0000"/>
                </a:solidFill>
                <a:latin typeface="Arial"/>
                <a:ea typeface="宋体"/>
              </a:rPr>
              <a:t>第一个因数不变，第二个因数不断变大，积也不断变大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八边形 7"/>
          <p:cNvSpPr/>
          <p:nvPr/>
        </p:nvSpPr>
        <p:spPr>
          <a:xfrm>
            <a:off x="385920" y="77940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组合 1"/>
          <p:cNvGrpSpPr/>
          <p:nvPr/>
        </p:nvGrpSpPr>
        <p:grpSpPr>
          <a:xfrm>
            <a:off x="1428840" y="3298680"/>
            <a:ext cx="6095880" cy="1000440"/>
            <a:chOff x="1428840" y="3298680"/>
            <a:chExt cx="6095880" cy="1000440"/>
          </a:xfrm>
        </p:grpSpPr>
        <p:pic>
          <p:nvPicPr>
            <p:cNvPr id="1045" name="图片 2" descr="E:\2017秋上·黄倩\其他\人\蜜蜂.gif蜜蜂"/>
            <p:cNvPicPr/>
            <p:nvPr/>
          </p:nvPicPr>
          <p:blipFill>
            <a:blip r:embed="rId1"/>
            <a:stretch/>
          </p:blipFill>
          <p:spPr>
            <a:xfrm>
              <a:off x="6905160" y="3616200"/>
              <a:ext cx="6195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Box 3"/>
            <p:cNvSpPr/>
            <p:nvPr/>
          </p:nvSpPr>
          <p:spPr>
            <a:xfrm>
              <a:off x="1488960" y="3325320"/>
              <a:ext cx="9140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从上面的例子，你发现了什么规律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圆角矩形标注 4"/>
            <p:cNvSpPr/>
            <p:nvPr/>
          </p:nvSpPr>
          <p:spPr>
            <a:xfrm>
              <a:off x="1428840" y="3298680"/>
              <a:ext cx="5500440" cy="500040"/>
            </a:xfrm>
            <a:prstGeom prst="wedgeRoundRectCallout">
              <a:avLst>
                <a:gd name="adj1" fmla="val 48592"/>
                <a:gd name="adj2" fmla="val 89254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TextBox 6"/>
          <p:cNvSpPr/>
          <p:nvPr/>
        </p:nvSpPr>
        <p:spPr>
          <a:xfrm>
            <a:off x="971640" y="4538520"/>
            <a:ext cx="7891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个因数不变，另一个因数乘几或除以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除外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积也乘几或除以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组合 13"/>
          <p:cNvGrpSpPr/>
          <p:nvPr/>
        </p:nvGrpSpPr>
        <p:grpSpPr>
          <a:xfrm>
            <a:off x="457200" y="1198440"/>
            <a:ext cx="5972040" cy="928800"/>
            <a:chOff x="457200" y="1198440"/>
            <a:chExt cx="5972040" cy="928800"/>
          </a:xfrm>
        </p:grpSpPr>
        <p:pic>
          <p:nvPicPr>
            <p:cNvPr id="1050" name="图片 12" descr="E:\2017秋上·黄倩\其他\人\海豚.jpg海豚"/>
            <p:cNvPicPr/>
            <p:nvPr/>
          </p:nvPicPr>
          <p:blipFill>
            <a:blip r:embed="rId2"/>
            <a:stretch/>
          </p:blipFill>
          <p:spPr>
            <a:xfrm>
              <a:off x="457200" y="1198440"/>
              <a:ext cx="514800" cy="62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TextBox 10"/>
            <p:cNvSpPr/>
            <p:nvPr/>
          </p:nvSpPr>
          <p:spPr>
            <a:xfrm>
              <a:off x="1670040" y="1288440"/>
              <a:ext cx="914040" cy="8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用以上的方法依次比较其他算式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圆角矩形标注 11"/>
            <p:cNvSpPr/>
            <p:nvPr/>
          </p:nvSpPr>
          <p:spPr>
            <a:xfrm>
              <a:off x="1643040" y="1263960"/>
              <a:ext cx="4786200" cy="458640"/>
            </a:xfrm>
            <a:prstGeom prst="wedgeRoundRectCallout">
              <a:avLst>
                <a:gd name="adj1" fmla="val -59976"/>
                <a:gd name="adj2" fmla="val -4402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TextBox 9"/>
          <p:cNvSpPr/>
          <p:nvPr/>
        </p:nvSpPr>
        <p:spPr>
          <a:xfrm>
            <a:off x="1003320" y="2055960"/>
            <a:ext cx="735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0000"/>
                </a:solidFill>
                <a:latin typeface="Arial"/>
                <a:ea typeface="宋体"/>
              </a:rPr>
              <a:t>一个因数不变，另一个因数不断变小，积也不断变小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Box 10"/>
          <p:cNvSpPr/>
          <p:nvPr/>
        </p:nvSpPr>
        <p:spPr>
          <a:xfrm>
            <a:off x="428760" y="988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先算出每组题中第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题的积，再写出下面两题的得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×3=                 48×5=               8×5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×3=               48×50=               8×2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×30=             48×500=               4×5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12"/>
          <p:cNvSpPr/>
          <p:nvPr/>
        </p:nvSpPr>
        <p:spPr>
          <a:xfrm>
            <a:off x="2109960" y="151128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13"/>
          <p:cNvSpPr/>
          <p:nvPr/>
        </p:nvSpPr>
        <p:spPr>
          <a:xfrm>
            <a:off x="2104920" y="208296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14"/>
          <p:cNvSpPr/>
          <p:nvPr/>
        </p:nvSpPr>
        <p:spPr>
          <a:xfrm>
            <a:off x="2109960" y="26654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6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18"/>
          <p:cNvSpPr/>
          <p:nvPr/>
        </p:nvSpPr>
        <p:spPr>
          <a:xfrm>
            <a:off x="4629240" y="15066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19"/>
          <p:cNvSpPr/>
          <p:nvPr/>
        </p:nvSpPr>
        <p:spPr>
          <a:xfrm>
            <a:off x="4624560" y="207792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4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20"/>
          <p:cNvSpPr/>
          <p:nvPr/>
        </p:nvSpPr>
        <p:spPr>
          <a:xfrm>
            <a:off x="4629240" y="266076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4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21"/>
          <p:cNvSpPr/>
          <p:nvPr/>
        </p:nvSpPr>
        <p:spPr>
          <a:xfrm>
            <a:off x="6997680" y="15098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22"/>
          <p:cNvSpPr/>
          <p:nvPr/>
        </p:nvSpPr>
        <p:spPr>
          <a:xfrm>
            <a:off x="6993000" y="206532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23"/>
          <p:cNvSpPr/>
          <p:nvPr/>
        </p:nvSpPr>
        <p:spPr>
          <a:xfrm>
            <a:off x="6997680" y="26478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组合 27"/>
          <p:cNvGrpSpPr/>
          <p:nvPr/>
        </p:nvGrpSpPr>
        <p:grpSpPr>
          <a:xfrm>
            <a:off x="2214720" y="3274920"/>
            <a:ext cx="5705280" cy="744480"/>
            <a:chOff x="2214720" y="3274920"/>
            <a:chExt cx="5705280" cy="744480"/>
          </a:xfrm>
        </p:grpSpPr>
        <p:pic>
          <p:nvPicPr>
            <p:cNvPr id="1065" name="图片 26" descr="E:\2017秋上·黄倩\其他\人\t01cd44f4a8bab65945.jpgt01cd44f4a8bab65945"/>
            <p:cNvPicPr/>
            <p:nvPr/>
          </p:nvPicPr>
          <p:blipFill>
            <a:blip r:embed="rId1"/>
            <a:stretch/>
          </p:blipFill>
          <p:spPr>
            <a:xfrm>
              <a:off x="7295400" y="3274920"/>
              <a:ext cx="62460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圆角矩形标注 24"/>
            <p:cNvSpPr/>
            <p:nvPr/>
          </p:nvSpPr>
          <p:spPr>
            <a:xfrm>
              <a:off x="2214720" y="3417840"/>
              <a:ext cx="4785840" cy="500760"/>
            </a:xfrm>
            <a:prstGeom prst="wedgeRoundRectCallout">
              <a:avLst>
                <a:gd name="adj1" fmla="val 54472"/>
                <a:gd name="adj2" fmla="val 6750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矩形 25"/>
            <p:cNvSpPr/>
            <p:nvPr/>
          </p:nvSpPr>
          <p:spPr>
            <a:xfrm>
              <a:off x="3198960" y="3417840"/>
              <a:ext cx="3038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你能看出每组算式有什么规律吗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9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7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2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4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9" name="Rectangle 64"/>
          <p:cNvSpPr/>
          <p:nvPr/>
        </p:nvSpPr>
        <p:spPr>
          <a:xfrm>
            <a:off x="525600" y="14940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Box 1"/>
          <p:cNvSpPr/>
          <p:nvPr/>
        </p:nvSpPr>
        <p:spPr>
          <a:xfrm>
            <a:off x="628560" y="6429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扩大后的绿地面积是多少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组合 5"/>
          <p:cNvGrpSpPr/>
          <p:nvPr/>
        </p:nvGrpSpPr>
        <p:grpSpPr>
          <a:xfrm>
            <a:off x="3486240" y="1357200"/>
            <a:ext cx="4657680" cy="1500480"/>
            <a:chOff x="3486240" y="1357200"/>
            <a:chExt cx="4657680" cy="1500480"/>
          </a:xfrm>
        </p:grpSpPr>
        <p:pic>
          <p:nvPicPr>
            <p:cNvPr id="1082" name="图片 4" descr="00.gif"/>
            <p:cNvPicPr/>
            <p:nvPr/>
          </p:nvPicPr>
          <p:blipFill>
            <a:blip r:embed="rId1"/>
            <a:stretch/>
          </p:blipFill>
          <p:spPr>
            <a:xfrm>
              <a:off x="6915600" y="1571400"/>
              <a:ext cx="1228320" cy="12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TextBox 2"/>
            <p:cNvSpPr/>
            <p:nvPr/>
          </p:nvSpPr>
          <p:spPr>
            <a:xfrm>
              <a:off x="3486240" y="1357200"/>
              <a:ext cx="914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长不变，宽增加到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24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米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圆角矩形标注 3"/>
            <p:cNvSpPr/>
            <p:nvPr/>
          </p:nvSpPr>
          <p:spPr>
            <a:xfrm>
              <a:off x="3486240" y="1357200"/>
              <a:ext cx="3501000" cy="500040"/>
            </a:xfrm>
            <a:prstGeom prst="wedgeRoundRectCallout">
              <a:avLst>
                <a:gd name="adj1" fmla="val 48611"/>
                <a:gd name="adj2" fmla="val 95944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5" name="图片 20" descr="21.jpg"/>
          <p:cNvPicPr/>
          <p:nvPr/>
        </p:nvPicPr>
        <p:blipFill>
          <a:blip r:embed="rId2"/>
          <a:stretch/>
        </p:blipFill>
        <p:spPr>
          <a:xfrm>
            <a:off x="1357200" y="2184480"/>
            <a:ext cx="4071960" cy="1601640"/>
          </a:xfrm>
          <a:prstGeom prst="rect">
            <a:avLst/>
          </a:prstGeom>
          <a:ln w="0">
            <a:noFill/>
          </a:ln>
        </p:spPr>
      </p:pic>
      <p:sp>
        <p:nvSpPr>
          <p:cNvPr id="1086" name="TextBox 19"/>
          <p:cNvSpPr/>
          <p:nvPr/>
        </p:nvSpPr>
        <p:spPr>
          <a:xfrm>
            <a:off x="1214280" y="3998880"/>
            <a:ext cx="7500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4÷8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×3=6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扩大后的绿地面积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平方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8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99"/>
          <p:cNvSpPr/>
          <p:nvPr/>
        </p:nvSpPr>
        <p:spPr>
          <a:xfrm>
            <a:off x="154080" y="893880"/>
            <a:ext cx="946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判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数相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个因数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另一个因数除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积不变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个因数不变，另一个因数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积也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      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个因数扩大到原来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，积一定扩大到原来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1"/>
          <p:cNvSpPr/>
          <p:nvPr/>
        </p:nvSpPr>
        <p:spPr>
          <a:xfrm>
            <a:off x="8399520" y="1603440"/>
            <a:ext cx="2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12"/>
          <p:cNvSpPr/>
          <p:nvPr/>
        </p:nvSpPr>
        <p:spPr>
          <a:xfrm>
            <a:off x="8331120" y="2712960"/>
            <a:ext cx="2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2"/>
          <p:cNvSpPr/>
          <p:nvPr/>
        </p:nvSpPr>
        <p:spPr>
          <a:xfrm>
            <a:off x="8350200" y="2147760"/>
            <a:ext cx="2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1:22Z</dcterms:created>
  <dc:creator/>
  <dc:description/>
  <dc:language>en-US</dc:language>
  <cp:lastModifiedBy>万润仪器贸易公司</cp:lastModifiedBy>
  <dcterms:modified xsi:type="dcterms:W3CDTF">2020-08-21T08:56:01Z</dcterms:modified>
  <cp:revision>9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